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2A1-5545-4CDB-B2E4-C8E8A664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 of participants and overview of the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 to the person besid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1C7-4D55-49FE-B167-EC55EDC2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3DD-9690-43D6-AE96-357285D9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CEB-E063-42FE-ABA6-DFFEE48D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B02-7BD0-405E-8BC9-C5C7BEF8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E6A-D3A8-4F25-8851-E06E50DB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C14-3725-402D-BFFD-83E96586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464-FFB6-46D8-AD13-3D5DB79E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7DF-1006-44F2-9355-E3D2A5F1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166-03A0-4711-9E00-55E2F2BF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8D8-0FB0-4849-9989-D6E6F09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1AD-63A1-4DDC-B2C5-3F99E793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918-6739-42C3-9886-B90266C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D680-CA0D-4E2F-9A18-9AD28028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All%20Users/Desktop/iTunes.lnk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esources%20for%20the%20ipod/transportation%20-%20vocabulary.wmv" TargetMode="External"/><Relationship Id="rId3" Type="http://schemas.openxmlformats.org/officeDocument/2006/relationships/hyperlink" Target="file:///resources%20for%20the%20ipod/Parts%20of%20SpeechiPodMovie.m4v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esources%20for%20the%20ipod/myschool.wmv" TargetMode="External"/><Relationship Id="rId3" Type="http://schemas.openxmlformats.org/officeDocument/2006/relationships/hyperlink" Target="file:///resources%20for%20the%20ipod/Your%205%20Super%20Senses_5thGrade.mp4" TargetMode="External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mangum@wcpss.net" TargetMode="External"/><Relationship Id="rId3" Type="http://schemas.openxmlformats.org/officeDocument/2006/relationships/hyperlink" Target="mailto:ipods4classrooms@wikispaces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du.edu/educ/roverbau/bloom/blooms_taxonomy.ht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4286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Pods for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eaching and learning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nect, Communicate and Create</a:t>
            </a:r>
            <a:br>
              <a:rPr sz="4000"/>
            </a:br>
            <a:br>
              <a:rPr sz="60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ncy Mangu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 2009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15328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view listening activities in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22032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Pods can help our ESL students wit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8120" y="3047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Fl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here are lots of resources on the web for using iPods with our ESL stud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t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ods4classrooms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en you find resources on the web you must first convert them to the mp4 format so they can be converted onto the iPod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lso created some of 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wn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– vocabula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tory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ocabulary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tasia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nglish Success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are also crea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 for the ip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ive S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ime upfront with the teachers to focus on curriculum ideas to incorporate the iPods on a daily basis and creating alternative assess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do not keep any cords, they have to upload and charge at school.  This prevents them from recording music on the iPo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one-to-one computer access for syncing i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rave iPo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communication needed up-front with parents and students about the ownership responsibility for the iPo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d carrying cases for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mangum@wcpss.net</a:t>
            </a:r>
            <a:br>
              <a:rPr sz="4000"/>
            </a:br>
            <a:br>
              <a:rPr sz="40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ods4classrooms.wikispaces.c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iPods in the ESL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Connect</a:t>
            </a:r>
            <a:br>
              <a:rPr sz="5400"/>
            </a:br>
            <a:br>
              <a:rPr sz="2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udents to their learning and motivate 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Create</a:t>
            </a:r>
            <a:br>
              <a:rPr sz="5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gher order thinking skills for our stud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Communicate</a:t>
            </a:r>
            <a:br>
              <a:rPr sz="5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ive students a vo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are we using iPo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 our classroo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5911920"/>
            <a:ext cx="916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listen and watch lessons that focus on English language acqui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61084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791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isten to and follow along with written text to reinforce writte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220320" cy="600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5791320"/>
            <a:ext cx="734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cord their voices  to work on oral language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5:45:32Z</dcterms:created>
  <dc:creator>nancy_mangum</dc:creator>
  <dc:description/>
  <dc:language>en-US</dc:language>
  <cp:lastModifiedBy>nancy_mangum</cp:lastModifiedBy>
  <dcterms:modified xsi:type="dcterms:W3CDTF">2009-03-05T03:03:25Z</dcterms:modified>
  <cp:revision>17</cp:revision>
  <dc:subject/>
  <dc:title>   iPods for  teaching and learning   Connect, Communicate and Create  Nancy Mangum &amp; Larry Savage December 5, 2008   </dc:title>
</cp:coreProperties>
</file>